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D67-C26F-440A-BDCC-3EB5D8AE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BB6-7BED-4197-A1F7-0848BD5B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D2D-A42D-4060-9A91-EBCA80B1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F36-EA86-4A75-B1F8-96038075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F76E-7272-49EB-B144-B53F8F2D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B107-DED2-4ACC-B0FC-53639EB7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0D05-DAA1-4AE4-B0FB-F5E32ED0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1B13-D276-4530-881D-1FBCCFFB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E0ED-8AC1-4E8F-A056-9493F44C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F870-EF14-4729-AB1B-D63E7C35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445B-53DF-495B-B255-930945BB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080-17F6-4D50-8677-777E3413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E4DC-8354-4983-9E79-D1B7B574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BEAC-50F5-474A-BBB5-8FF4D776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2DA9-23A9-447C-8025-9F410051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3CF4-DDDF-49B1-B05C-A90C7189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40B2-67CC-4038-AA22-53E6DF96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59B-A06C-4456-B244-9750C438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9FB-BFC9-42BA-8669-27F8F6C7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C13-E924-4718-83DE-7672BF17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BE09-6FB4-4B8A-BD8C-D6920D33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132-50B3-4E03-B5F5-A7110BA8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7E5-1F57-427D-9D02-105678FB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3FE-076B-4CFC-945D-858A34B1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C10C-0705-4A36-9426-AEC4CAF4083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C3DC-F23A-4B31-9D25-DBAAC3A27D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ontabilitatea capitalului propriu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820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iectivi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unea si structura capitalului propri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bilitatea formarii si modificarii capitalului statutar. Contabitatea capitalului nevarsat, suplimentar si ret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bilitatea rezerve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bilitatea profitului net si a profitului nerepartiz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bilitatea capitalului secund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501336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6491160"/>
            <a:ext cx="37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Contabilitatea majorarii capitalului statutar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915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jorarea capitalului statutar poate fi efectuata prin urmatoarele meto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ajorarea valorii nominale a actiunilor plasa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lasarea actiunilor din emisiune suplimentar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sele de majorare a capitalul statutar pot f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Times New Roman"/>
              </a:rPr>
              <a:t>Sursele proprii ale intreprinderii (profit nerepartizat al anilor precedenti, profit net al anului de gestiune, rezerve, capital suplimentar, etc.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32  Ct 311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ajorarea capitalului statutar din contul profitului nerepartiza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34  Ct 311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ajorarea capitalului statutar din contul profitului anului de gestiune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21, 322, 323  Ct 311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ajorarea capitalului statutar din contul rezervelor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Times New Roman"/>
              </a:rPr>
              <a:t>Aporturile depuse de actionar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244  Ct 537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eflectarea mijloacelor b[ne;ti depuse in contul achitarii actiunilor din emisie suplimentara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537  Ct 311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ajorarea capitalului statutar pe seama aporturilor depuse de fondator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242, 243  Ct 244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trecerea mijloacelor bane;ti de la contul special la contul cur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aca actiunile se vand la un pret mai mare sau mai mic ca valoarea nominala, diferenta se contabilizeaza ca capital suplimentar . In debetul sau creditul contului 2312 “Capital suplimenta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ontabilitatea capitalulu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iuplimentar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810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italul suplimentar se formeaza la efectuarea urmatoarelor operatiun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hitarea cotelor in capitalul statutar al intreprinderii, la crearea acesteia, la valoarea ce difera de cea nominala - Dt 242, 243, 121, 123, 211, 217, etc.  Ct 312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hitarea cotelor in capitalul statutar al intreprinderii la majorarea acestuia, la valoarea ce difera de cea nominala – Dt 312 Ct 311 sau Dt 537  CT 3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anzarea cotelor rascumparate anterior la un pret ce difera de valoarea de rascumparare – Dt 312   Ct 314 sau Dt 314  Ct 312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ularea actiunilor rascumparate anterior la un pret ce difera de valoarea nominala; Dt 314  Ct 312 sau  Dt 312  Ct 31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erntele de curs aparute la depunea aporturilor in valuta straina  Dt 243  Ct 312 sau Dt 312  Ct 31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xemplul 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Conform contractului de constituirea a societăţii pe acţiuni „Dagvin - Plus”, s-a decis formarea societăţii cu un capital de 80000 lei care este divizat în 5000 acţiuni simple. Acţiunile sunt plasate la preţul de 20 lei / unitatea. Până la înregistrarea de stat a întreprinderii fondatorii au transferat mijloacele băneşti la contul bancar provizoriu în proporţie de 100 % din valoarea acţiunilor plas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Peste 3 luni a fost anunţată emisia suplimentară a 2000 acţiuni, care au fost plasate la preţul de 15 lei / acţiune. Plata acţiunilor din emisia suplimentară este efectuată prin transferarea mijloacelor băneşti la contul bancar provizoriu. În decursul a 15 zile totalurile emisiei suplimentare au fost înregistrate la Comisia Naţională a Valorilor Mobili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Times New Roman"/>
              </a:rPr>
              <a:t>Se cere: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de reflectat în conturi operaţiile economice de mai s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xemplul 2 (rezolvare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692280"/>
          <a:ext cx="9144000" cy="5810040"/>
        </p:xfrm>
        <a:graphic>
          <a:graphicData uri="http://schemas.openxmlformats.org/drawingml/2006/table">
            <a:tbl>
              <a:tblPr/>
              <a:tblGrid>
                <a:gridCol w="411120"/>
                <a:gridCol w="5919840"/>
                <a:gridCol w="1041480"/>
                <a:gridCol w="823680"/>
                <a:gridCol w="947880"/>
              </a:tblGrid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nominale a acţiunilor plasate la crearea societăţ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sumei diferenţei dintre preţul de vânzare şi valoarea nominală a acţiunilor ((20 - 16)* 5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Încasarea mijloacelor băneşti din emisiunea suplimentară de acţiuni (2000 * 1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jorarii capitalului statutar la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e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nomina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a acţiunilor din emisia suplimentar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diferenţei dintre preţul de vânzare şi valoarea nominală a acţiunilor plasate din emisia suplimentar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ecerea mijloacelor băneşti de la contul provizoriu la cel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re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csorarea capitalului statut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italul statutar poate fi diminuat pr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Micsorarea valoarii nominale a actiunilor plas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t 311  Ct 332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oprirea pierderilor anilor precedenti din contul micsorararii capitalului statuta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t 311  Ct 537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sorarea capitalului statutar prin rambursarea diferentei fondatorilo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Anularea actiunilor rascumparat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t 311   Ct 3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tabilitatea capitalului retr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valoarea de rascumpararea a actiunilor retrase din circula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oarea de rascumparare a actiunilor retrase din circula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241, 242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erenta dintre valoarea de rascumparare si valoarea nominala (Vrasc. &lt; Vnom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31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erenta dintre valoarea de rascumparare si valoarea de revanzare (Vrasc.&lt;Vrevanz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3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ularea actiunilor rascumparate, la valoarea nomina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31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erenta dintre valoarea de rascumparare si valoarea nominala (Vrasc. &gt;Vnom.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2  Ct 314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anzarea actiunilor rascumparate, la valoarea de revanzar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241,242  Ct 314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erenta dintre valoarea de rascumparare si valoarea de revanzare (Vrasc.&gt;Vrevanz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3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72000" y="1484280"/>
            <a:ext cx="0" cy="468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90792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                              314 “Capital retras”                               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2276640"/>
            <a:ext cx="4176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l 3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Societatea pe acţiuni „Treza - Tur” a răscumpărat de la acţionarii săi la 16 aprilie, în scopul prevenirii scăderii cursului acţiunilor, 4000 acţiuni proprii cu valoarea nominală de 75 lei acţiunea la preţul de 80 lei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La 1 august au fost revândute 1800 acţiuni la preţul de 77 lei / acţiunea, iar la 20 august a fost înregistrată micşorarea capitalului statutar prin anularea a 1500 acţiuni. Ulterior, la 25 septembrie au fost revândute 700 acţiuni la preţul de 86 lei / unitat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Times New Roman"/>
              </a:rPr>
              <a:t>Se cere: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de reflectat în conturi operaţiile economice de mai s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l 3</a:t>
            </a:r>
            <a:r>
              <a:rPr b="1" lang="en-US" sz="1600" spc="-1" strike="noStrike">
                <a:solidFill>
                  <a:srgbClr val="feec94"/>
                </a:solidFill>
                <a:latin typeface="Times New Roman"/>
              </a:rPr>
              <a:t>(rezolvare)</a:t>
            </a:r>
            <a:endParaRPr b="1" lang="en-US" sz="1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95280" y="981000"/>
          <a:ext cx="8229600" cy="5904000"/>
        </p:xfrm>
        <a:graphic>
          <a:graphicData uri="http://schemas.openxmlformats.org/drawingml/2006/table">
            <a:tbl>
              <a:tblPr/>
              <a:tblGrid>
                <a:gridCol w="289080"/>
                <a:gridCol w="5400360"/>
                <a:gridCol w="935280"/>
                <a:gridCol w="720720"/>
                <a:gridCol w="88416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răscumpărarea acţiunilor proprii de la acţionari (4000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80 lei / acţiune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înregistrează revânzarea a 1800 acţiuni la 1 august (1800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77 le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suma diferenţei dintre preţul de răscumpărare şi cel de revânzare al acţiunilor ((80 - 77)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valoarea nominală acţiunilor anulate (1500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75 le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diferenţa dintre preţul de răscumpărare şi valoarea nominală a acţiunilor anulate ((80 – 75)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15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înregistrează revânzarea a 700 acţiuni din 25 septembrie (700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86 le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suma diferenţei dintre preţul de răscumpărare şi cel de revânzare al acţiunilor ((86 - 80)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tabilitatea rezervel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zervele se formeaza din profitul ne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ituirea rezervelor se reflecta in contabilitate in baza extrasului din procesul verbal al adunarii organului imputernici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ilizarea rezervelor se contabilizeaza in baza deciziei de inregistrare a modificarii capitalului statutar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marea rezervel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n contul profitului nerepartizar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32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Ct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21,322,3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n contul profitului anului de gestiune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34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Ct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21,322,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tilizarea rezervel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ntr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operirea pierderilor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21,322,323  Ct 33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area capitalului statutar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21,322,323  Ct 3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a dividendelor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21,322,323  Ct 53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l 4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La 1 ianuarie  rezervele prevăzute de statut ale societăţii pe acţiuni „Mioriţa” constituiau 25000 lei. Pe parcursul anului au avut loc următoarele modificări în fondul rezervelor statut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la 15 martie au fos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e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rezerve prevăzute de statut din profitul anului precedent –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600 le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la 20 aprilie au fost achitate dividende pentru acţiuni preferenţiale din contul rezervelor statutare – 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000 le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la 30 aprilie a fost efectuată majorarea rezervelor statutare pe seama capitalului suplimentar –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000 le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conform deciziei adunării generale a acţionarilor din 1 august s-a hotărât de a majora capitalul statutar al întreprinderii, d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ul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rezer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r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statutare 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000 le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în luna noiembrie au fost efectuate defalcări în fondul de rezerve pe contul profitului anului de gestiune curent – 5000 le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Times New Roman"/>
              </a:rPr>
              <a:t>Se cere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: de reflectat în conturi operaţiile economice de mai sus şi de determinat soldul contului 322 „Rezerve prevăzute de statut” la finele anulu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Bibliografia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93824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692280"/>
            <a:ext cx="88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ea contabilitatii/ Contabilitate si aud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Bazele conceptuale ale pregatirii şi prezentării rapoartelor financiar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MO nr. 88-91 din 30 decembrie 1997 sau Contabilitate şi audit, 1998, nr. 5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Planul de conturi contabile ale activităţii economico-financiar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Contabilitate şi audit , 1998, nr. 2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ea R.M. privind societăţile pe acţiuni  Nr.1134-XIII  din  02.04.97/ Monitorul Oficial al R.Moldova nr.38-39/332 din 12.06.1997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ea RM cu privire la întreprinderea de stat nr. 146   din 16.06.94/ Monitorul Oficial nr 002 din 25.08.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e cu privire la înregistrarea de stat a întreprinderilor şi organizaţiilor nr. 1265/ Monitorul Oficial nr 031 din 22.03.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Legea RM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u privire la asociaţiile obşteşti nr. 837   din 17.05.96/ Monitorul Oficial nr 006 din 23.01.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TARIRE cu privire la aprobarea Regulamentului privind pregătirea procesului de convertire în acţiuni a datoriilor faţă de stat nr. 95   din  31.01.2005/Monitorul Oficial nr 024 din: 11.02.2005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.N.C. 2 “Stocurile de mărfuri şi materiale”/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Contabilitate şi audit , 1998, nr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.N.C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6 “Active materiale pe termen lung”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Contabilitate şi audit , 1998, nr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.N.C. 20 “Contabilitatea subvenţiilor de stat şi publicitatea asistenţei de stat”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 C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ontabilitate şi aud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ontabilitate financiara, colectiv de autori, coord. A. Nederita, ACAP,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1074600"/>
            <a:ext cx="84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l 4 </a:t>
            </a:r>
            <a:r>
              <a:rPr b="1" lang="en-US" sz="1200" spc="-1" strike="noStrike">
                <a:solidFill>
                  <a:srgbClr val="feec94"/>
                </a:solidFill>
                <a:latin typeface="Times New Roman"/>
              </a:rPr>
              <a:t>(rezolvare)</a:t>
            </a:r>
            <a:endParaRPr b="1" lang="en-US" sz="1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95280" y="692280"/>
          <a:ext cx="8229600" cy="3929040"/>
        </p:xfrm>
        <a:graphic>
          <a:graphicData uri="http://schemas.openxmlformats.org/drawingml/2006/table">
            <a:tbl>
              <a:tblPr/>
              <a:tblGrid>
                <a:gridCol w="547560"/>
                <a:gridCol w="5222880"/>
                <a:gridCol w="865440"/>
                <a:gridCol w="718920"/>
                <a:gridCol w="874800"/>
              </a:tblGrid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 martie – se reflectă suma defalcărilor efectuate în fondul rezervelor statutare pe seama profitului anilor precedenţ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 aprilie – calculul dividendelor din contul rezervelor prevăzute de stat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aprilie – se reflectă majorarea rezervelor statutare pe seama capitalului supliment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august – utilizarea rezervelor prevăzute de statut pentru majorarea capitalului statut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majorării rezervelor prevăzute de statut pe seama profitului anului de gestiune cur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2269080" y="4651920"/>
            <a:ext cx="287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22 „Rezerve prevăzute de statut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771640" y="5038560"/>
          <a:ext cx="2286000" cy="1819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0" lang="ro-RO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25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10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3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) 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) 5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ro-RO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t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1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ro-RO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t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10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o-RO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19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8820000" y="141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eterminarea profitului net (pierderii) al anului de gestiun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449568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a totala a cheltuieli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t 351 Ct 711, 712, 713, 714, 721, 722, 723, 73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area pierderii anului de gestiu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t 333  Ct 35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8320" y="2923920"/>
            <a:ext cx="449568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a totala a venituri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t 611, 612, 621, 622, 623 Ct 35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area profitului anului de gestiu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t 351  Ct 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13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3622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1413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itul net (pierderea) se determina la finele anului de gestiune prin inchiderea conturilor de venituri si cheltuieli in contul 351 “Rezultat financiar tot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42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Dt                                351 “Rezultat financiar total”                             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2852640"/>
            <a:ext cx="0" cy="400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33 “Profit net (pierdere) al perioadei de gestiune”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lectarea pierderii anului de gesti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33  Ct 35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minuarea profitului net cu suma profitului utilizat (la reformarea bilantulu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33  Ct 33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cerea pierderii anului de gestiune la pierderile anilor preced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33  Ct 3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lectarea profitului anului de gestiu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51  Ct 33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cerea profitului anului de gestiune la profitul nerepartizat al anilor preced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32  Ct 3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572000" y="1484280"/>
            <a:ext cx="0" cy="468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484280"/>
            <a:ext cx="7993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1052640"/>
            <a:ext cx="80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981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Dt                                                                                             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Exemplul 5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836640"/>
            <a:ext cx="89280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apitalul propriu al societăţii pe acţiuni „Andy” cuprinde: capital statutar, capital suplimentar, rezerve, profit nerepartizat, capital secundar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apitalul statutar al întreprinderii „Andy” SA la 1 ianuarie 2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era dezvăluit în 6000 acţiuni simple cu valoarea nominală de 20 lei acţiun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În luna martie 2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a fost anunţată emisia suplimentară a 1500 acţiuni simple care au fost vîndute la preţul de 24 lei / acţiun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În luna mai 2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la adunarea generală a acţionarilor a fost luată decizia privind majorarea valorii nominale a acţiunilor plasate de la 20 la 25 lei: pe seama profitului nerepartizat al a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lor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preced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 - 22000 lei şi a rezervelor statutare – 15500 le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La 15 martie 2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s-a calculat profitul net al anului 2005 în sumă de 38600 lei, care la reformarea bilanţului contabil a fost reflectat drept profit al anilor precedenţ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onform deciziei adunării generale a acţionarilor din 15 martie 2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profitul net a fost utilizat astfel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alculul dividendelor acţionarilor în mărime de 1,5 lei / acţiune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majorarea rezervelor prevăzute de statutul în mărime de 12000 lei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defalcări în fondul altor rezerve – 5600 le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de întocmit formulele contab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Exemplul 5 (rezolvare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692280"/>
          <a:ext cx="9144000" cy="6127560"/>
        </p:xfrm>
        <a:graphic>
          <a:graphicData uri="http://schemas.openxmlformats.org/drawingml/2006/table">
            <a:tbl>
              <a:tblPr/>
              <a:tblGrid>
                <a:gridCol w="608040"/>
                <a:gridCol w="6078600"/>
                <a:gridCol w="909720"/>
                <a:gridCol w="720720"/>
                <a:gridCol w="826920"/>
              </a:tblGrid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mijloacelor băneşti încasate în cursul emisiei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plimentare a acţiunilor din luna martie 2005 (1500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24 lei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nominale a acţiunilor din emisia suplimentară (1500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20 lei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sumei diferenţei dintre preţul de vânzare şi valoarea nominală a acţiunilor din emisia suplimentară (4 lei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15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Înregistrarea transferării mijloacelor băneşti de la contul provizoriu la cel perman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majorării valorii nominale a acţiunilor, din contul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profitului nerepartizat al anilor precedenţ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rezervelor statut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Înregistrarea profitului net al anului de gestiune cur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 reformarea bilanţului contabil, soldul contului 333 se trece la rezultatele anilor precedenţ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tilizarea profitului nerepartizat al anului de gestiune precedent, după cum urmează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calculul dividendelor acţionarilor (7500 acţiuni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1,5 lei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majorarea fondului de rezerve prevăzute de stat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majorarea altor rezerve existente la întreprinde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hitarea dividendelor acţionaril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lementele capitalului propriu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si conturile de evident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33782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8000" y="30178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25520" y="1636200"/>
            <a:ext cx="4155120" cy="2078280"/>
            <a:chOff x="425520" y="1636200"/>
            <a:chExt cx="4155120" cy="2078280"/>
          </a:xfrm>
        </p:grpSpPr>
        <p:cxnSp>
          <p:nvCxnSpPr>
            <p:cNvPr id="132" name="_s22634"/>
            <p:cNvCxnSpPr>
              <a:stCxn id="133" idx="1"/>
              <a:endCxn id="134" idx="2"/>
            </p:cNvCxnSpPr>
            <p:nvPr/>
          </p:nvCxnSpPr>
          <p:spPr>
            <a:xfrm rot="10800000">
              <a:off x="1668960" y="2239200"/>
              <a:ext cx="416520" cy="131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22632"/>
            <p:cNvCxnSpPr>
              <a:stCxn id="136" idx="1"/>
              <a:endCxn id="134" idx="2"/>
            </p:cNvCxnSpPr>
            <p:nvPr/>
          </p:nvCxnSpPr>
          <p:spPr>
            <a:xfrm rot="10800000">
              <a:off x="1668960" y="2239200"/>
              <a:ext cx="416520" cy="949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7" name="_s22631"/>
            <p:cNvCxnSpPr>
              <a:stCxn id="138" idx="1"/>
              <a:endCxn id="134" idx="2"/>
            </p:cNvCxnSpPr>
            <p:nvPr/>
          </p:nvCxnSpPr>
          <p:spPr>
            <a:xfrm rot="10800000">
              <a:off x="1668960" y="2239200"/>
              <a:ext cx="416520" cy="579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9" name="_s22630"/>
            <p:cNvCxnSpPr>
              <a:stCxn id="140" idx="1"/>
              <a:endCxn id="134" idx="2"/>
            </p:cNvCxnSpPr>
            <p:nvPr/>
          </p:nvCxnSpPr>
          <p:spPr>
            <a:xfrm rot="10800000">
              <a:off x="1668960" y="2239200"/>
              <a:ext cx="416520" cy="211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4" name="_s22626"/>
            <p:cNvSpPr/>
            <p:nvPr/>
          </p:nvSpPr>
          <p:spPr>
            <a:xfrm>
              <a:off x="425520" y="1636200"/>
              <a:ext cx="2491920" cy="6030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Capital statuta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si suplimenta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22627"/>
            <p:cNvSpPr/>
            <p:nvPr/>
          </p:nvSpPr>
          <p:spPr>
            <a:xfrm>
              <a:off x="2085480" y="2292120"/>
              <a:ext cx="2495160" cy="3157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311-”Capital satutar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22628"/>
            <p:cNvSpPr/>
            <p:nvPr/>
          </p:nvSpPr>
          <p:spPr>
            <a:xfrm>
              <a:off x="2085480" y="2661120"/>
              <a:ext cx="2495160" cy="316080"/>
            </a:xfrm>
            <a:prstGeom prst="roundRect">
              <a:avLst>
                <a:gd name="adj" fmla="val 16667"/>
              </a:avLst>
            </a:prstGeom>
            <a:solidFill>
              <a:srgbClr val="b76a0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312-”Capital suplimentar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22629"/>
            <p:cNvSpPr/>
            <p:nvPr/>
          </p:nvSpPr>
          <p:spPr>
            <a:xfrm>
              <a:off x="2085480" y="3029760"/>
              <a:ext cx="2495160" cy="316080"/>
            </a:xfrm>
            <a:prstGeom prst="roundRect">
              <a:avLst>
                <a:gd name="adj" fmla="val 16667"/>
              </a:avLst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Times New Roman"/>
                </a:rPr>
                <a:t>313-”Capital nerevarsat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22633"/>
            <p:cNvSpPr/>
            <p:nvPr/>
          </p:nvSpPr>
          <p:spPr>
            <a:xfrm>
              <a:off x="2085480" y="3398760"/>
              <a:ext cx="2495160" cy="315720"/>
            </a:xfrm>
            <a:prstGeom prst="roundRect">
              <a:avLst>
                <a:gd name="adj" fmla="val 16667"/>
              </a:avLst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Times New Roman"/>
                </a:rPr>
                <a:t>314-”Capital retras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61840" y="1559160"/>
            <a:ext cx="3339360" cy="2171520"/>
            <a:chOff x="5361840" y="1559160"/>
            <a:chExt cx="3339360" cy="2171520"/>
          </a:xfrm>
        </p:grpSpPr>
        <p:cxnSp>
          <p:nvCxnSpPr>
            <p:cNvPr id="142" name="_s22643"/>
            <p:cNvCxnSpPr>
              <a:stCxn id="143" idx="1"/>
              <a:endCxn id="144" idx="2"/>
            </p:cNvCxnSpPr>
            <p:nvPr/>
          </p:nvCxnSpPr>
          <p:spPr>
            <a:xfrm rot="10800000">
              <a:off x="6144840" y="1830960"/>
              <a:ext cx="259560" cy="1590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5" name="_s22642"/>
            <p:cNvCxnSpPr>
              <a:stCxn id="146" idx="1"/>
              <a:endCxn id="144" idx="2"/>
            </p:cNvCxnSpPr>
            <p:nvPr/>
          </p:nvCxnSpPr>
          <p:spPr>
            <a:xfrm rot="10800000">
              <a:off x="6144840" y="1830960"/>
              <a:ext cx="259560" cy="957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22641"/>
            <p:cNvCxnSpPr>
              <a:stCxn id="148" idx="1"/>
              <a:endCxn id="144" idx="2"/>
            </p:cNvCxnSpPr>
            <p:nvPr/>
          </p:nvCxnSpPr>
          <p:spPr>
            <a:xfrm rot="10800000">
              <a:off x="6144840" y="1830960"/>
              <a:ext cx="259560" cy="32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4" name="_s22637"/>
            <p:cNvSpPr/>
            <p:nvPr/>
          </p:nvSpPr>
          <p:spPr>
            <a:xfrm>
              <a:off x="5361840" y="1559160"/>
              <a:ext cx="1564920" cy="2728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Rezerv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22638"/>
            <p:cNvSpPr/>
            <p:nvPr/>
          </p:nvSpPr>
          <p:spPr>
            <a:xfrm>
              <a:off x="6404760" y="1846440"/>
              <a:ext cx="2296440" cy="618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321-”Rezeve stabilit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de legislatie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22639"/>
            <p:cNvSpPr/>
            <p:nvPr/>
          </p:nvSpPr>
          <p:spPr>
            <a:xfrm>
              <a:off x="6404760" y="2479320"/>
              <a:ext cx="2296440" cy="618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22-”Rezerve prevazu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e statut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22640"/>
            <p:cNvSpPr/>
            <p:nvPr/>
          </p:nvSpPr>
          <p:spPr>
            <a:xfrm>
              <a:off x="6404760" y="3112200"/>
              <a:ext cx="2296440" cy="618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23-”Alte rezerve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54760" y="4420800"/>
            <a:ext cx="4111200" cy="2401560"/>
            <a:chOff x="554760" y="4420800"/>
            <a:chExt cx="4111200" cy="2401560"/>
          </a:xfrm>
        </p:grpSpPr>
        <p:cxnSp>
          <p:nvCxnSpPr>
            <p:cNvPr id="150" name="_s22652"/>
            <p:cNvCxnSpPr>
              <a:stCxn id="151" idx="1"/>
              <a:endCxn id="152" idx="2"/>
            </p:cNvCxnSpPr>
            <p:nvPr/>
          </p:nvCxnSpPr>
          <p:spPr>
            <a:xfrm rot="10800000">
              <a:off x="1545480" y="5017320"/>
              <a:ext cx="245880" cy="152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22651"/>
            <p:cNvCxnSpPr>
              <a:stCxn id="154" idx="1"/>
              <a:endCxn id="152" idx="2"/>
            </p:cNvCxnSpPr>
            <p:nvPr/>
          </p:nvCxnSpPr>
          <p:spPr>
            <a:xfrm rot="10800000">
              <a:off x="1545480" y="5017320"/>
              <a:ext cx="245880" cy="92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22650"/>
            <p:cNvCxnSpPr>
              <a:stCxn id="156" idx="1"/>
              <a:endCxn id="152" idx="2"/>
            </p:cNvCxnSpPr>
            <p:nvPr/>
          </p:nvCxnSpPr>
          <p:spPr>
            <a:xfrm rot="10800000">
              <a:off x="1545480" y="5017320"/>
              <a:ext cx="245880" cy="319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2" name="_s22646"/>
            <p:cNvSpPr/>
            <p:nvPr/>
          </p:nvSpPr>
          <p:spPr>
            <a:xfrm>
              <a:off x="554760" y="4420800"/>
              <a:ext cx="1981080" cy="5968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Profit nerepartiza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(pierdere neacoperita</a:t>
              </a:r>
              <a:r>
                <a:rPr b="0" lang="en-US" sz="15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22647"/>
            <p:cNvSpPr/>
            <p:nvPr/>
          </p:nvSpPr>
          <p:spPr>
            <a:xfrm>
              <a:off x="1791720" y="5054400"/>
              <a:ext cx="2874240" cy="564840"/>
            </a:xfrm>
            <a:prstGeom prst="roundRect">
              <a:avLst>
                <a:gd name="adj" fmla="val 16667"/>
              </a:avLst>
            </a:prstGeom>
            <a:solidFill>
              <a:srgbClr val="b76a0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332-”Profit nerepartizat (pierder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neacoperite) al anilor precedentii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22648"/>
            <p:cNvSpPr/>
            <p:nvPr/>
          </p:nvSpPr>
          <p:spPr>
            <a:xfrm>
              <a:off x="1791720" y="5655960"/>
              <a:ext cx="2874240" cy="564840"/>
            </a:xfrm>
            <a:prstGeom prst="roundRect">
              <a:avLst>
                <a:gd name="adj" fmla="val 16667"/>
              </a:avLst>
            </a:prstGeom>
            <a:solidFill>
              <a:srgbClr val="b76a0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333-”Profit net (pierdere)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l perioadei de gestiune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22649"/>
            <p:cNvSpPr/>
            <p:nvPr/>
          </p:nvSpPr>
          <p:spPr>
            <a:xfrm>
              <a:off x="1791720" y="6257520"/>
              <a:ext cx="2874240" cy="564840"/>
            </a:xfrm>
            <a:prstGeom prst="roundRect">
              <a:avLst>
                <a:gd name="adj" fmla="val 16667"/>
              </a:avLst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334-”Utilizarea profitului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664600" y="4300200"/>
            <a:ext cx="3005280" cy="2529000"/>
            <a:chOff x="5664600" y="4300200"/>
            <a:chExt cx="3005280" cy="2529000"/>
          </a:xfrm>
        </p:grpSpPr>
        <p:cxnSp>
          <p:nvCxnSpPr>
            <p:cNvPr id="158" name="_s22660"/>
            <p:cNvCxnSpPr>
              <a:stCxn id="159" idx="1"/>
              <a:endCxn id="160" idx="2"/>
            </p:cNvCxnSpPr>
            <p:nvPr/>
          </p:nvCxnSpPr>
          <p:spPr>
            <a:xfrm rot="10800000">
              <a:off x="6463080" y="4653720"/>
              <a:ext cx="201960" cy="1711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1" name="_s22659"/>
            <p:cNvCxnSpPr>
              <a:stCxn id="162" idx="1"/>
              <a:endCxn id="160" idx="2"/>
            </p:cNvCxnSpPr>
            <p:nvPr/>
          </p:nvCxnSpPr>
          <p:spPr>
            <a:xfrm rot="10800000">
              <a:off x="6463080" y="4653720"/>
              <a:ext cx="201960" cy="623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0" name="_s22655"/>
            <p:cNvSpPr/>
            <p:nvPr/>
          </p:nvSpPr>
          <p:spPr>
            <a:xfrm>
              <a:off x="5664600" y="4300200"/>
              <a:ext cx="1598760" cy="3538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Capital secunda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22656"/>
            <p:cNvSpPr/>
            <p:nvPr/>
          </p:nvSpPr>
          <p:spPr>
            <a:xfrm>
              <a:off x="6665400" y="4812840"/>
              <a:ext cx="2004480" cy="928800"/>
            </a:xfrm>
            <a:prstGeom prst="roundRect">
              <a:avLst>
                <a:gd name="adj" fmla="val 16667"/>
              </a:avLst>
            </a:prstGeom>
            <a:solidFill>
              <a:srgbClr val="b76a0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341-”Diferente di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reevaluarea activelo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pe termen lung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22657"/>
            <p:cNvSpPr/>
            <p:nvPr/>
          </p:nvSpPr>
          <p:spPr>
            <a:xfrm>
              <a:off x="6665400" y="5900040"/>
              <a:ext cx="2004480" cy="9291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42-”Subventii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ormarea capitalului statut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Marimea aporturilor la capitalul statutar este determinanta de actele de constitu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Aporturile fondatorilor pot fi </a:t>
            </a:r>
            <a:r>
              <a:rPr b="0" lang="ro-RO" sz="2800" spc="-1" strike="noStrike">
                <a:solidFill>
                  <a:srgbClr val="000099"/>
                </a:solidFill>
                <a:latin typeface="Times New Roman"/>
              </a:rPr>
              <a:t>băneşt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(mijloace banesti) si </a:t>
            </a:r>
            <a:r>
              <a:rPr b="0" lang="ro-RO" sz="2800" spc="-1" strike="noStrike">
                <a:solidFill>
                  <a:srgbClr val="000099"/>
                </a:solidFill>
                <a:latin typeface="Times New Roman"/>
              </a:rPr>
              <a:t>nebanest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(bunuri aflate in circuitul civil, drepturi patr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iale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Aporturile nebanesti se evalueaza in conformitate cu prevederile S.N.C. 2, 13, 16, 2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Formarea capitalului statutar se reflecta in contabilitate după înregistrarea de stat a întreprinder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Acţiunile, cotele de participaţie, la crearea întreprinderii se vând la valoarea nominala sau valoarea de piaţa ce de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seste valoarea nomin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Formulele contabile la formarea capitalului statutar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241, 242, 243 Ct 3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epunerea mijloacelor banesti ca aport la capitalul statutar, in contul achitarii valorii nominale a actiunilor in baza dispozitiei de incasare sau dispozitiei de pl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13 Ct3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lectarea capitalului nevarsat (contract de constituire, stat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111, 112, 121, 123 ,131 ,132, 211, 213, 217, 231, 232, 241, 242, 243 Ct 3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unerea capitalului nevarsat la valoarea de intrare (Proces verbal de primire-predare, factura fiscala, extras din registrul detinatorilor hartiilor de valo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Times New Roman"/>
              </a:rPr>
              <a:t>Dt 534 Ct 3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flectarea TVA aferenta aporturilor nebanesti depus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13 Ct 3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lectarea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diferentei dintre valoare nominala si valoare de piata a actiuni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mijloacele fixe depuse in capitalul statutar sunt scutite de 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xemplu 1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La 12 marti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9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fondatorii SRL „Cosmidan” au încheiat un contract de constituire a societăţii al cărui capital statutar este de 8000 lei, din care aporturi nebăneşti în valoare de  – 4000 lei. Până la înregistrarea societăţii fondatorii au virat în contul bancar provizoriu mijloace băneşti în proporţie de 40 % din capitalul statutar. La 1 aprilie s-a efectuat înregistrarea de stat a întreprinderii şi astfel la 12 aprilie fondatorii şi-au achitat datoria în capitalul societăţii: mijloace băneşti – 800 lei; „Xerox” color al cărui valoare constituie 4900 lei. Conform deciziei comitetului de conducere a societăţii, suma depăşirii valorii aportului nebănesc asupra părţii sociale cuvenite se consideră drept datorie a societăţii faţă de fondator şi urmează să fie achitată până la sfârşitul lunii curente contra mijloace băneşti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o-RO" sz="2800" spc="-1" strike="noStrike">
                <a:solidFill>
                  <a:srgbClr val="ffffff"/>
                </a:solidFill>
                <a:latin typeface="Times New Roman"/>
              </a:rPr>
              <a:t>Se cere: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de reflectat în conturi operaţiile legate de crearea capitalului statutar al întreprinder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 1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(rezolvare)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1268280"/>
          <a:ext cx="8147160" cy="5253120"/>
        </p:xfrm>
        <a:graphic>
          <a:graphicData uri="http://schemas.openxmlformats.org/drawingml/2006/table">
            <a:tbl>
              <a:tblPr/>
              <a:tblGrid>
                <a:gridCol w="366840"/>
                <a:gridCol w="5591160"/>
                <a:gridCol w="738360"/>
                <a:gridCol w="649080"/>
                <a:gridCol w="80172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aporturilor depuse de către fondato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Înregistrarea valorii aporturilor nedepuse de către fondatori la momentul înregistrării întreprinder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aporturilor băneşti depuse de către fondator după înregistrarea de stat a întreprinder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aporturilor nebăneşti depuse de către fondator după înregistrarea de stat a întreprinderii, în limita cotei soc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aporturilor nebăneşti depuse de către fondator după înregistrarea de stat a întreprinderii, peste limita cotei soc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hitarea datoriei faţă de fondator din casieria întreprinder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ontabilitatea capitalului nevarsa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ta neachitata de fondatori aferenta aporturilor la capitalul statut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t 313  Ct 3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irea mijloacelor de la fondatori in contul achitarii datoriil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t 121, 123, 111, 112, 242, 243, 211, 213, 217  Ct 31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572000" y="1413000"/>
            <a:ext cx="0" cy="2952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413000"/>
            <a:ext cx="828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981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t                                 313 “Capital nevarsat”                            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39280" y="2133720"/>
            <a:ext cx="410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50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azul in care valoarea estimativa a aportului nebanesc depaseste marimea cotei in capitalul statutar, diferenta poate fi inregistrata, in dependenta de decizia primita, 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orie a intreprinderii fata de proprietar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123, 121, etc  Ct 53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rimoniu primit cu titlu gratuit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123,121, etc  Ct 6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dificarea capitalului statut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carea capitalului statutar se efectueaza prin majorarea sau micsorarea lui, in conformitate cu legislatia in vigo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zia privind modificarea capitalului statutar se aproba de adunarea generala a asociatilor (SRL) sau actionarilor (SA) sau organelor puterii de stat (intreprindere de stat, municipala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unile de modificare a capitalului statutar se reflecta in contabilitate dupa introducera schimbarilor in Registru de Inregistrare de Sta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alitate de docunente justificative pentru inregistrarea modificarilor capitalului statutar in contabilitate servesc extrasul din procesul verbal al adunarii organului imputernicit, statutul intreprinderii, deciyia de inregistrarea a modificarii capitalului statutar eliberata de Oficiul Teritorial al Camerii Inregistrarii de Sta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carea capitalului statutar se inregistreaza la valoarea nominal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5:32:22Z</dcterms:created>
  <dc:creator> Sandu</dc:creator>
  <dc:description/>
  <dc:language>en-US</dc:language>
  <cp:lastModifiedBy>Admin</cp:lastModifiedBy>
  <dcterms:modified xsi:type="dcterms:W3CDTF">2010-03-23T13:20:06Z</dcterms:modified>
  <cp:revision>25</cp:revision>
  <dc:subject/>
  <dc:title>Contabilitatea capitalului propriu</dc:title>
</cp:coreProperties>
</file>